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8260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C60-033A-41BB-AEAB-EFE8D9AC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4C8-B841-4A9C-AE5F-80BE9DBE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288-66BB-4790-ACFF-69EC7103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F40-D07C-41B7-8CB2-1EF7920C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743-A849-4E5F-BF3D-FE37C708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A18-9BF3-458F-8ADC-5E16AA8A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40F-4479-4E6F-BF6C-EF09EB72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1C9-94F9-472C-9A21-FBBB6928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D49-5375-4E32-9B45-45DB4B2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8260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0E2-CCF3-4444-8A97-FAFAB9AE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2C5-5517-4A40-BA71-AE14CA07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934-ED87-4832-8D91-5B5B4510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2649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School of Computer Science"/>
          <p:cNvPicPr/>
          <p:nvPr/>
        </p:nvPicPr>
        <p:blipFill>
          <a:blip r:embed="rId3"/>
          <a:stretch/>
        </p:blipFill>
        <p:spPr>
          <a:xfrm>
            <a:off x="0" y="0"/>
            <a:ext cx="2209680" cy="311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209680" y="0"/>
            <a:ext cx="6096240" cy="22860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c0c0c0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CC81-64CF-479B-BA06-55524673F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Working with MinorThird:</a:t>
            </a:r>
            <a:br>
              <a:rPr sz="44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 2: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arning Extractors, and Engineering Featur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W. Co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riting Feature Extracto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: construct features for “email a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“act”: is an email messag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it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do someth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explo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bi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time expressions in a message, and the words that occurred near a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appearing near a pronoun or proper no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g of part-of-speech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riting Feature Extracto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; do most of the work 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 leve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mixup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467480" cy="4114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'emailActs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 'date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 'pos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bigram =: ... [any any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when =: ... [@extracted_time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when =: ... [@extracted_date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nearTime =: ... [@when any{0,4}R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nearTime =: ... [L any{0,4} @when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pronounOrProperNoun = PRP: [...]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pronounOrProperNoun = NNP: [...]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nearPerson =: ... [@pronounOrProperNoun any{0,4} R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nearPerson =: ... [L any{0,4} @pronounOrProperNoun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riting Feature Extracto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30200"/>
            <a:ext cx="8229600" cy="55234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 edu.cmu.minorthird.tex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 edu.cmu.minorthird.text.learn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class EmailActFE extends SpanFE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extractFeatures(TextLabels labels, Span 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s.require("emailActs"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tokens(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bigram"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when").eq().tr(".*","TIME"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nearTime").tokens(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nearTime").tokens(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nearPronoun").tokens(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tokens().prop("P"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3960" y="318960"/>
            <a:ext cx="769608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960" y="318960"/>
            <a:ext cx="769608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10938" t="26918" r="29687" b="15453"/>
          <a:stretch/>
        </p:blipFill>
        <p:spPr>
          <a:xfrm>
            <a:off x="838080" y="762120"/>
            <a:ext cx="71629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lans for Next Meet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usual time and place (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or adding to the “reposit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ext applications of Minor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the Java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&amp; medium-term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/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inorThird Architectur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4800600"/>
          <a:ext cx="4648320" cy="685800"/>
        </p:xfrm>
        <a:graphic>
          <a:graphicData uri="http://schemas.openxmlformats.org/drawingml/2006/table">
            <a:tbl>
              <a:tblPr/>
              <a:tblGrid>
                <a:gridCol w="1447920"/>
                <a:gridCol w="3200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P - The German government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1981080"/>
          <a:ext cx="4724640" cy="639720"/>
        </p:xfrm>
        <a:graphic>
          <a:graphicData uri="http://schemas.openxmlformats.org/drawingml/2006/table">
            <a:tbl>
              <a:tblPr/>
              <a:tblGrid>
                <a:gridCol w="1447920"/>
                <a:gridCol w="327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v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german:1 the:4 NNP.German:1 Xx+:5 ...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523880" y="2895480"/>
          <a:ext cx="4648320" cy="1738440"/>
        </p:xfrm>
        <a:graphic>
          <a:graphicData uri="http://schemas.openxmlformats.org/drawingml/2006/table">
            <a:tbl>
              <a:tblPr/>
              <a:tblGrid>
                <a:gridCol w="1447920"/>
                <a:gridCol w="3200400"/>
              </a:tblGrid>
              <a:tr h="580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ized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F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The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rman govern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P - The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rman govern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P - The German government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V="1">
            <a:off x="6477120" y="441936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52520" y="44956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ex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77120" y="327636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35053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  <a:endCxn id="91" idx="0"/>
          </p:cNvCxnSpPr>
          <p:nvPr/>
        </p:nvCxnSpPr>
        <p:spPr>
          <a:xfrm flipH="1" rot="16200000">
            <a:off x="6870240" y="2853360"/>
            <a:ext cx="258120" cy="1045080"/>
          </a:xfrm>
          <a:prstGeom prst="curvedConnector5">
            <a:avLst>
              <a:gd name="adj1" fmla="val -126536"/>
              <a:gd name="adj2" fmla="val 50000"/>
              <a:gd name="adj3" fmla="val -126536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91" idx="2"/>
          </p:cNvCxnSpPr>
          <p:nvPr/>
        </p:nvCxnSpPr>
        <p:spPr>
          <a:xfrm rot="5400000">
            <a:off x="7143840" y="3813840"/>
            <a:ext cx="320040" cy="435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rot="10800000">
            <a:off x="6476400" y="3885480"/>
            <a:ext cx="610200" cy="381600"/>
          </a:xfrm>
          <a:prstGeom prst="curvedConnector5">
            <a:avLst>
              <a:gd name="adj1" fmla="val 89020"/>
              <a:gd name="adj2" fmla="val 49952"/>
              <a:gd name="adj3" fmla="val 8902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 flipV="1">
            <a:off x="6477120" y="220932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0720" y="22860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 “langu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0640" y="5867280"/>
            <a:ext cx="30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 engineer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7" idx="3"/>
            <a:endCxn id="91" idx="3"/>
          </p:cNvCxnSpPr>
          <p:nvPr/>
        </p:nvCxnSpPr>
        <p:spPr>
          <a:xfrm flipV="1">
            <a:off x="8058240" y="3688920"/>
            <a:ext cx="280080" cy="2363040"/>
          </a:xfrm>
          <a:prstGeom prst="curvedConnector5">
            <a:avLst>
              <a:gd name="adj1" fmla="val 181724"/>
              <a:gd name="adj2" fmla="val 49992"/>
              <a:gd name="adj3" fmla="val 181724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endCxn id="96" idx="3"/>
          </p:cNvCxnSpPr>
          <p:nvPr/>
        </p:nvCxnSpPr>
        <p:spPr>
          <a:xfrm flipH="1" flipV="1" rot="5400000">
            <a:off x="6486480" y="4060440"/>
            <a:ext cx="3626280" cy="444960"/>
          </a:xfrm>
          <a:prstGeom prst="curvedConnector5">
            <a:avLst>
              <a:gd name="adj1" fmla="val -526"/>
              <a:gd name="adj2" fmla="val 95708"/>
              <a:gd name="adj3" fmla="val -526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143000" y="198108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80060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654120" y="1983600"/>
            <a:ext cx="48528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ualiz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946680" y="1379520"/>
            <a:ext cx="16002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1080" y="118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ed annot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8076960" y="1371600"/>
            <a:ext cx="337320" cy="2318400"/>
          </a:xfrm>
          <a:prstGeom prst="curvedConnector5">
            <a:avLst>
              <a:gd name="adj1" fmla="val 167841"/>
              <a:gd name="adj2" fmla="val 49992"/>
              <a:gd name="adj3" fmla="val 167841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73279"/>
          <a:stretch/>
        </p:blipFill>
        <p:spPr>
          <a:xfrm>
            <a:off x="128520" y="318960"/>
            <a:ext cx="8886960" cy="1662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88320" y="29322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ed Perceptron, 10 epochs, sample6.mixup: F=0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3505320"/>
          <a:ext cx="7848720" cy="1976400"/>
        </p:xfrm>
        <a:graphic>
          <a:graphicData uri="http://schemas.openxmlformats.org/drawingml/2006/table">
            <a:tbl>
              <a:tblPr/>
              <a:tblGrid>
                <a:gridCol w="5562720"/>
                <a:gridCol w="22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er/mix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 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5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6 (dictionar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62258"/>
          <a:stretch/>
        </p:blipFill>
        <p:spPr>
          <a:xfrm>
            <a:off x="0" y="838080"/>
            <a:ext cx="9144000" cy="278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6360" y="3352680"/>
            <a:ext cx="65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ed Perceptron, 20 epochs, sample6.mixup, 5-cv: F=0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925800"/>
          <a:ext cx="7848720" cy="2386080"/>
        </p:xfrm>
        <a:graphic>
          <a:graphicData uri="http://schemas.openxmlformats.org/drawingml/2006/table">
            <a:tbl>
              <a:tblPr/>
              <a:tblGrid>
                <a:gridCol w="5562720"/>
                <a:gridCol w="22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er/mix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 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5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6 (dictionar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6 (dicts), 5c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320" y="297000"/>
            <a:ext cx="906768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61880"/>
            <a:ext cx="914400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Obvious next step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nconsistent label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Bar C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s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Bar C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ies of countries, programs, o/s’s, people names, etc might be helpful to remove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ies of comp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brev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P, SCO) and more up-to-date company listing (Av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#examp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828800"/>
            <a:ext cx="1828800" cy="4572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828800"/>
            <a:ext cx="1600200" cy="4572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3:13Z</dcterms:created>
  <dc:creator>William Cohen</dc:creator>
  <dc:description/>
  <dc:language>en-US</dc:language>
  <cp:lastModifiedBy>William Cohen</cp:lastModifiedBy>
  <dcterms:modified xsi:type="dcterms:W3CDTF">2004-06-23T13:37:18Z</dcterms:modified>
  <cp:revision>116</cp:revision>
  <dc:subject/>
  <dc:title>Working with MinorThird: Lesson 1: Text Annotations and Mixup</dc:title>
</cp:coreProperties>
</file>