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D3C-8B4F-4BC9-ADBC-F1A03F0A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3C1-C306-45AF-9A2D-52AAA7C2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83F-2450-4177-B92D-239CC751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7CA-55CB-4718-BA17-482A70C2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B8F-53ED-4501-BC50-9A84D02B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60B-FCAD-4AA8-AF38-5897262F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914-6FAA-4C0E-9B94-6D159A45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7BB-75C9-4504-83D1-0110FD5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0E5-205C-4EC1-B34E-C46F4A37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752-5421-4AB5-A3A7-6709F90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003-2469-4F2D-87F4-485629CF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7B2-119A-4E2B-BC3A-2716F770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ffffff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5EF1-83BB-4422-ABE0-6D5D56E49E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4217-47F2-4462-BBDA-3305CEF8E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FB0C-A6AA-4895-8456-B5CFF7A48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19-09-19T12:51:22Z</dcterms:modified>
  <cp:revision>1</cp:revision>
  <dc:subject/>
  <dc:title>PowerPoint Presentation</dc:title>
</cp:coreProperties>
</file>