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3BFB-0189-4F4A-9BC0-42D97EF6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3BE-B11B-4E88-9B99-DDD0C43E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4A5-15C4-4D05-9DD7-6538C9A9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439-253B-4C44-8CFC-4C4A1CF9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0F6-36AB-45B1-A382-1C721232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3EB-8608-438D-AE33-24181371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BD21-6E18-4B0E-9597-B4053C7A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800-239D-469C-9878-24E63DC5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D6C-3C22-459A-9655-829E7739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9AD-DAD5-48CC-9C83-6A73191B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77C-1839-4587-82EC-F4156159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803-A337-4232-A9D3-BE730693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AA0F-3506-473B-B1CF-5C2141D47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9480" y="609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Hi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371600" y="190512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2324160" y="3608280"/>
            <a:ext cx="6057720" cy="2057400"/>
            <a:chOff x="2324160" y="3608280"/>
            <a:chExt cx="6057720" cy="2057400"/>
          </a:xfrm>
        </p:grpSpPr>
        <p:sp>
          <p:nvSpPr>
            <p:cNvPr id="44" name="Rectangle 5"/>
            <p:cNvSpPr/>
            <p:nvPr/>
          </p:nvSpPr>
          <p:spPr>
            <a:xfrm>
              <a:off x="2324160" y="4037760"/>
              <a:ext cx="3162240" cy="16002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val 6"/>
            <p:cNvSpPr/>
            <p:nvPr/>
          </p:nvSpPr>
          <p:spPr>
            <a:xfrm>
              <a:off x="6095880" y="3608280"/>
              <a:ext cx="2286000" cy="2057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7:25Z</dcterms:created>
  <dc:creator>Nausherwan Aslam</dc:creator>
  <dc:description/>
  <dc:language>en-US</dc:language>
  <cp:lastModifiedBy>Nausherwan Aslam</cp:lastModifiedBy>
  <dcterms:modified xsi:type="dcterms:W3CDTF">2014-02-21T13:30:45Z</dcterms:modified>
  <cp:revision>1</cp:revision>
  <dc:subject/>
  <dc:title>PowerPoint Presentation</dc:title>
</cp:coreProperties>
</file>