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723D-DD2A-447E-902C-2AE37140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09040" y="10342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F6EF-CC8F-4177-8DBC-4BF80220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2608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09040" y="1034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26080" y="1034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8B0D-161B-4C8B-942D-41133B27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91480" y="7977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73920" y="7977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09040" y="10342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091480" y="10342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73920" y="10342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7B69-9FE9-4331-A4E7-E20AB943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09040" y="7977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29D1-D2DA-4737-9BD3-746641B1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DF34-4A6A-42B3-8F1C-0947803F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26080" y="7977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873A-C124-498F-884E-79776B83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43A7-E208-406B-A65C-521C13CC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00320" y="4960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89DD-9AC5-498E-ACCB-EF3723AB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26080" y="7977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09040" y="1034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27A9-140D-4D4F-9B1A-062D9D1B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2608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26080" y="1034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9815-14EE-4626-82A2-2FBA7CC0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2608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09040" y="10342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F2C7-0DC4-461E-8BB9-3F29C843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 rot="16200000"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</a:tabLst>
            </a:pPr>
            <a:fld id="{E0640C47-2260-49B2-9370-FB1B3DAEBB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E0CC6620-8C04-4A0F-AF42-6FDC53B08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ew picture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New shape"/>
          <p:cNvSpPr/>
          <p:nvPr/>
        </p:nvSpPr>
        <p:spPr>
          <a:xfrm>
            <a:off x="127080" y="127080"/>
            <a:ext cx="2539800" cy="3174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Sample tex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Sample text </a:t>
            </a:r>
            <a:r>
              <a:rPr b="0" lang="en-US" sz="4800" spc="-1" strike="noStrike">
                <a:solidFill>
                  <a:srgbClr val="4f81bd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28T12:21:07Z</dcterms:created>
  <dc:creator/>
  <dc:description/>
  <dc:language>en-US</dc:language>
  <cp:lastModifiedBy/>
  <cp:lastPrinted>2019-06-28T17:21:07Z</cp:lastPrinted>
  <dcterms:modified xsi:type="dcterms:W3CDTF">2019-09-19T12:50:54Z</dcterms:modified>
  <cp:revision>1</cp:revision>
  <dc:subject/>
  <dc:title/>
</cp:coreProperties>
</file>