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89CF-48B7-4B78-A11A-8C61DB3F9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C7FA-C56E-4C14-BAC1-352EA21D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6702-90AB-4592-93E9-E70A673B7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6BC8-FA84-43FC-9081-B4448C7EA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5BDE-7442-409C-B5A0-A1EEC1A1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D01F-DAF6-490D-A5C2-65862868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E899-3212-4E4B-B1CE-6689CF92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C189-BD91-48BE-8300-99E8FB64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C9AA-26FB-44A1-A9A5-3C68D7A1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2A41-ED2B-45E6-8A71-1C3C77EC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1207-1587-4A2D-A3BF-503003A9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69E8-6273-4522-9817-21A69D70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BCED-BE99-45A2-9A90-111A84ADBB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609480" y="609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95373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53735"/>
                </a:solidFill>
                <a:latin typeface="Calibri"/>
              </a:rPr>
              <a:t>Hi T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035080" y="124920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58ed5"/>
                </a:solidFill>
                <a:latin typeface="Calibri"/>
              </a:rPr>
              <a:t>Aspose.Slides for .N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7"/>
          <p:cNvGrpSpPr/>
          <p:nvPr/>
        </p:nvGrpSpPr>
        <p:grpSpPr>
          <a:xfrm>
            <a:off x="4191120" y="5181480"/>
            <a:ext cx="4762440" cy="1398600"/>
            <a:chOff x="4191120" y="5181480"/>
            <a:chExt cx="4762440" cy="1398600"/>
          </a:xfrm>
        </p:grpSpPr>
        <p:sp>
          <p:nvSpPr>
            <p:cNvPr id="44" name="Rectangle 5"/>
            <p:cNvSpPr/>
            <p:nvPr/>
          </p:nvSpPr>
          <p:spPr>
            <a:xfrm>
              <a:off x="4191120" y="5473800"/>
              <a:ext cx="2486160" cy="10879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Oval 6"/>
            <p:cNvSpPr/>
            <p:nvPr/>
          </p:nvSpPr>
          <p:spPr>
            <a:xfrm>
              <a:off x="7156440" y="5181480"/>
              <a:ext cx="1797120" cy="13986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Aspose.Slides for 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elc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Hello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13:27:25Z</dcterms:created>
  <dc:creator>Nausherwan Aslam</dc:creator>
  <dc:description/>
  <dc:language>en-US</dc:language>
  <cp:lastModifiedBy>Jawad Ahmed</cp:lastModifiedBy>
  <dcterms:modified xsi:type="dcterms:W3CDTF">2016-05-26T12:18:20Z</dcterms:modified>
  <cp:revision>2</cp:revision>
  <dc:subject/>
  <dc:title>PowerPoint Presentation</dc:title>
</cp:coreProperties>
</file>