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76C-4FCD-4B64-9A34-B6E04BA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F11-A08B-445B-AEEE-9707A1A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B9B-A2E2-4190-ADB1-45779FFA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BF4-B1AA-43F0-B0BE-5828E60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AA6-E5CA-49C7-B3D8-FE5307E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CDC-D4CA-454F-B9C4-06678DC0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A4D-0863-429C-8933-DBBC263D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F0C-78D8-452F-BF18-E6F0857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5EF-942F-43F9-BD03-AD5E43C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5BB-9B03-49D8-90AF-AD9AE2C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ACE-0BA1-430A-BAAE-2175657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962-ECFC-4E9A-9CD1-8C06221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2FDD-2E67-462B-B3BA-93456D6C5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8:50:15Z</dcterms:created>
  <dc:creator>Serge</dc:creator>
  <dc:description/>
  <dc:language>en-US</dc:language>
  <cp:lastModifiedBy>Сергей</cp:lastModifiedBy>
  <dcterms:modified xsi:type="dcterms:W3CDTF">2021-12-17T16:36:39Z</dcterms:modified>
  <cp:revision>8</cp:revision>
  <dc:subject/>
  <dc:title>No Transition</dc:title>
</cp:coreProperties>
</file>