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F67-9A97-426A-8DA4-3708578B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54B-09D3-48D9-ADBD-2997AB95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850-8F5C-48C6-A607-B408CE56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14D-2E44-4539-8C88-FCB38CA0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06E-6F38-4831-BD1E-DAD9729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489-3D8F-4598-A047-520ABA86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626-6F5C-44B3-A73C-F5192A4B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F53-BAEB-4DA0-95DD-40ACB029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CB2-6F23-4A76-8ED0-145C7D2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ED6-EB4D-49BC-9260-9492588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B02-78B6-4215-82D0-2098D4B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0AB-01D6-406B-8F43-44B106D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83F-00D7-436B-A0A4-E9269509AC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E0F-D657-4C21-903C-9B26E005C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67BE-AC50-4FB7-B395-54412F352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1:20:48Z</dcterms:modified>
  <cp:revision>1</cp:revision>
  <dc:subject/>
  <dc:title>PowerPoint Presentation</dc:title>
</cp:coreProperties>
</file>