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7382-E7CF-4B1F-AB19-3AE54473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7F1F-9539-4428-B390-087F9C66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FE8D-30F3-43C6-AB7E-A18DE904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6A7-C614-47A0-AB3E-EC6D2522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06B4-19C5-408F-8CC7-1FF04DBB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A062-4584-4011-832A-EC01E60A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83B2-165D-4913-B090-DFB7B869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73F3-51B1-4AD1-A7A6-E43A5CF2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115B-AA57-45D9-980E-4397C059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E1AD-3C56-4BBF-AA59-4798FE5F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3458-2785-40BF-BA9C-3BCD6816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A8B9-BCC5-41F5-AB72-B2B65984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A3553C-C12A-4558-8423-342961194FF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  <Paragraphs>0</Paragraphs>
  <Company>Our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Template Category</cp:category>
  <cp:contentType>Template Content</cp:contentType>
  <dcterms:created xsi:type="dcterms:W3CDTF">2006-08-16T00:00:00Z</dcterms:created>
  <dc:creator>Template Author</dc:creator>
  <dc:description>Created from template</dc:description>
  <cp:keywords>Keyword1 Keyword2 Keyword3</cp:keywords>
  <dc:language>en-US</dc:language>
  <cp:lastModifiedBy>skvtor</cp:lastModifiedBy>
  <dcterms:modified xsi:type="dcterms:W3CDTF">2013-03-29T14:47:07Z</dcterms:modified>
  <cp:revision>6</cp:revision>
  <dc:subject>Template Subject</dc:subject>
  <dc:title>Templat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</Properties>
</file>