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69E6-E5B5-47A0-B7E8-3050CA27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E6A-85FB-440E-956F-6553E5CD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0F8-5708-4470-80A9-DDA9A3A3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CDF-C597-4A6E-95CF-ED0F61A5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EDE-8B5B-4393-986D-831F71EB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BBB-F7DA-46EA-B0D9-F128F77E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6F1-B80F-45AA-9557-4731140D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6BBE-CE67-4DE8-A5A9-794BD92C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6CE-665A-4044-A25C-223A7104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B75-5728-4CCC-AA1A-33155054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7961-F732-41B6-878C-650B53EC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096-437A-4B81-BA13-391865BC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A1CB-31BF-4FA0-864F-ABFB656D1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609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Hi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371600" y="190512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2324160" y="3608280"/>
            <a:ext cx="6057720" cy="2057400"/>
            <a:chOff x="2324160" y="3608280"/>
            <a:chExt cx="6057720" cy="2057400"/>
          </a:xfrm>
        </p:grpSpPr>
        <p:sp>
          <p:nvSpPr>
            <p:cNvPr id="44" name="Rectangle 5"/>
            <p:cNvSpPr/>
            <p:nvPr/>
          </p:nvSpPr>
          <p:spPr>
            <a:xfrm>
              <a:off x="2324160" y="4037760"/>
              <a:ext cx="3162240" cy="1600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6095880" y="3608280"/>
              <a:ext cx="2286000" cy="2057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Nausherwan Aslam</cp:lastModifiedBy>
  <dcterms:modified xsi:type="dcterms:W3CDTF">2014-02-21T13:30:45Z</dcterms:modified>
  <cp:revision>1</cp:revision>
  <dc:subject/>
  <dc:title>PowerPoint Presentation</dc:title>
</cp:coreProperties>
</file>