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D13-06AB-43E5-B9EE-B3D7E85F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787-9AC2-4750-8504-6FE5AEFC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C17-1403-48F6-81EC-0A5FC0DF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A47-E68E-4A3C-8BA3-9D8A5FDC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C23-9480-4861-8604-3F5E6BE5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886-F190-464B-80CC-C0BDE7D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E24-DCF6-4A8F-ACF4-72B5A95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E7B-D616-46BA-B08D-8223C00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3C5-DE33-46CE-9773-B726EDD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931-C220-4A98-B053-1EED182C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CB8-3F96-4733-B4E6-6A1C84E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24C-D7BB-4A13-AE36-BFF62E43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2F22-86C8-4581-B2A8-1E8E6FAB0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3" name="Rectangle 5"/>
            <p:cNvSpPr/>
            <p:nvPr/>
          </p:nvSpPr>
          <p:spPr>
            <a:xfrm>
              <a:off x="4191120" y="5473440"/>
              <a:ext cx="2486160" cy="108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6-02T20:29:03Z</dcterms:modified>
  <cp:revision>3</cp:revision>
  <dc:subject/>
  <dc:title>PowerPoint Presentation</dc:title>
</cp:coreProperties>
</file>